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A617-E53A-4421-8A6E-F21374A5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3D3F-8DB5-4B6D-AD59-C395F640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130A-B628-4DE0-890C-72BE492AA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E88F-4AC5-4711-BE58-57A0CE61C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EDB7-4EAF-4D37-B865-7D664B7F9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899C-D3D6-4CA8-9BC4-0F9AB2E0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4F01-9361-4DAE-9012-0C79BF2B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A5FA-F944-4A47-A769-6503DD35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9380-FD83-453B-BF99-C2F70431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9566-74AB-4FC8-A7B1-86FEF31F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3155-C26D-4B2F-8261-2EFCCAEC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0EAB-4631-462B-915B-B645C666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7EDA-B58B-4B78-AF06-18BB5AD8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4529-2372-4498-9E6E-2D98B4F6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4CA8-78E4-492B-A869-2790C49A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D051-796C-4AEA-B469-627397297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CB0C-2669-4D34-BDA1-96CA53CE5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2C1B-FDFA-48C8-9CF9-8FCC71E5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989C-B061-4A9B-BD1A-9FB94EAB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5012-7118-4ACB-A4C6-35289BBB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7044-3302-45DF-93F8-957890B1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7927-2C9E-408E-8454-E8503758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C364-6875-499B-AF77-4866E947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CBE3-DD74-491F-9655-89D1D255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5420-24F0-4BAC-9EFE-942DBDA006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B830-B3BD-4B7E-AA4E-A32BC6ECD0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8960" y="99036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afael Leónidas Trujillo Molina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90720" y="2895120"/>
            <a:ext cx="81532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he Dictator of the Dominican Republ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6" descr="Trujillo"/>
          <p:cNvPicPr/>
          <p:nvPr/>
        </p:nvPicPr>
        <p:blipFill>
          <a:blip r:embed="rId1"/>
          <a:stretch/>
        </p:blipFill>
        <p:spPr>
          <a:xfrm>
            <a:off x="3733920" y="4038480"/>
            <a:ext cx="194292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143000" y="380520"/>
            <a:ext cx="7313760" cy="48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irabal Sisters are martyrs in their countr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ere so influential that the author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Julia Álvarez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rote a novel about their liv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5" descr="graphic"/>
          <p:cNvPicPr/>
          <p:nvPr/>
        </p:nvPicPr>
        <p:blipFill>
          <a:blip r:embed="rId1"/>
          <a:stretch/>
        </p:blipFill>
        <p:spPr>
          <a:xfrm>
            <a:off x="6337440" y="3276720"/>
            <a:ext cx="2120760" cy="3124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380880" y="3276720"/>
            <a:ext cx="2036880" cy="3105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3"/>
          <a:stretch/>
        </p:blipFill>
        <p:spPr>
          <a:xfrm>
            <a:off x="3429000" y="3381480"/>
            <a:ext cx="187632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14400" y="76320"/>
            <a:ext cx="73137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assinating Trujillo took a long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entral Intelligence Agency (CIA), in the USA helped the Dominicans plan the death of Trujillo in 1961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eapons had to come from outside the country because they could not count on the weapons of the Dominican Milita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IA started sending weapons to Dominican Republic in 196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457200" y="449568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4800600" y="4495680"/>
            <a:ext cx="373392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371600" y="1219320"/>
            <a:ext cx="701208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rn on October 24, 1891 in San Cristobal, Dominican Republi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 parents were poor and of mixed rac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european/black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7" descr="Map of Dominican Republic"/>
          <p:cNvPicPr/>
          <p:nvPr/>
        </p:nvPicPr>
        <p:blipFill>
          <a:blip r:embed="rId1"/>
          <a:stretch/>
        </p:blipFill>
        <p:spPr>
          <a:xfrm>
            <a:off x="2874960" y="2211480"/>
            <a:ext cx="39304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369800" y="990720"/>
            <a:ext cx="73134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 27, he joins the National Poli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ujillo was trained by the US military when they occupied the Dominican Republi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ickly rose in ranks as an Officer and at this time, he met many influential people and created a chain of alli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ween 1919 and 1925, he rose from Lieutenant to Commanding Colonel of the National Polic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369800" y="990720"/>
            <a:ext cx="73134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ujillo was the head of the Military for Horacio Vásquez, who was President at the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30, Trujillo along with the US government got rid of Vásquez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this revolution, Trujillo became President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his inauguration, the Congress proclaimed the “Age of Trujillo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370160" y="762120"/>
            <a:ext cx="724032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ujillo was President from 1930 until 1938 and from 1942 until 1952.  He was also Minister of Foreign Relations from 1953 to 196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en when he was not the President nor the Minister of Foreign Relations, he was the Dictator of the Dominican Republi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ujillo’s flag during his presidenc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5" descr="Flag of the Generalissime"/>
          <p:cNvPicPr/>
          <p:nvPr/>
        </p:nvPicPr>
        <p:blipFill>
          <a:blip r:embed="rId1"/>
          <a:stretch/>
        </p:blipFill>
        <p:spPr>
          <a:xfrm>
            <a:off x="3357720" y="3200400"/>
            <a:ext cx="31953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363760" y="230040"/>
            <a:ext cx="6703920" cy="639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hen he was President, Trujillo the political party “El Partido Dominicano” that controlled the politics of the Dominican Republic for three decades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uring the Age of Trujillo, the Dominican economy had the most stability, however the citizens had no political freedom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ll Dominicans had to have a Photograph of Trujillo in their homes and had to include him in their prayer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trujillo3"/>
          <p:cNvPicPr/>
          <p:nvPr/>
        </p:nvPicPr>
        <p:blipFill>
          <a:blip r:embed="rId1"/>
          <a:stretch/>
        </p:blipFill>
        <p:spPr>
          <a:xfrm>
            <a:off x="0" y="0"/>
            <a:ext cx="2408400" cy="3352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2"/>
          <a:stretch/>
        </p:blipFill>
        <p:spPr>
          <a:xfrm>
            <a:off x="0" y="388620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218960" y="1080"/>
            <a:ext cx="7313400" cy="44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ujillo used his position in the military to obtain and maintain his pow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used the “Policía Secreta” as spies in the Dominican Republic and many other countrie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the government of Haiti found out that they were being spied on by Trujillo, the Haitians killed the spi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retaliation, Trujillo murdered 20,000 Haitians en 1937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457200" y="426708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4800600" y="426708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320" y="76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were many citizens that were against the atrocities of Trujill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irabal Sisters, better known as “Las mariposas” (the butterflies), were three activists that were against Trujillo’s dictatorship. They were four sisters from Ojo de Agua, Dominican Republi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fought against the governments injustices by informing the public about what was really happening in the count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16" descr="picture/image_Patricia_Marie_Minerva_Mirabal_sisters"/>
          <p:cNvPicPr/>
          <p:nvPr/>
        </p:nvPicPr>
        <p:blipFill>
          <a:blip r:embed="rId1"/>
          <a:stretch/>
        </p:blipFill>
        <p:spPr>
          <a:xfrm>
            <a:off x="3200400" y="4734000"/>
            <a:ext cx="285768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520" y="75960"/>
            <a:ext cx="80769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irabal sisters were some of the most influential revolutionists during Trujillo’s Regim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ujillo had them murde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isters were part of an underground movement against Trujillo’s govern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ri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nerv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ria Teres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e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5" descr="Patria%20SMALLER"/>
          <p:cNvPicPr/>
          <p:nvPr/>
        </p:nvPicPr>
        <p:blipFill>
          <a:blip r:embed="rId1"/>
          <a:stretch/>
        </p:blipFill>
        <p:spPr>
          <a:xfrm>
            <a:off x="990720" y="2971800"/>
            <a:ext cx="2012760" cy="2590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Minerva%20SMALLER"/>
          <p:cNvPicPr/>
          <p:nvPr/>
        </p:nvPicPr>
        <p:blipFill>
          <a:blip r:embed="rId2"/>
          <a:stretch/>
        </p:blipFill>
        <p:spPr>
          <a:xfrm>
            <a:off x="3903840" y="2971800"/>
            <a:ext cx="1963440" cy="2527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"/>
          <p:cNvPicPr/>
          <p:nvPr/>
        </p:nvPicPr>
        <p:blipFill>
          <a:blip r:embed="rId3"/>
          <a:stretch/>
        </p:blipFill>
        <p:spPr>
          <a:xfrm>
            <a:off x="6532560" y="2971800"/>
            <a:ext cx="15447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6:32:27Z</dcterms:created>
  <dc:creator>Jennifer Dawson</dc:creator>
  <dc:description/>
  <dc:language>en-US</dc:language>
  <cp:lastModifiedBy>Helen Zumaeta</cp:lastModifiedBy>
  <dcterms:modified xsi:type="dcterms:W3CDTF">2015-01-06T15:40:41Z</dcterms:modified>
  <cp:revision>18</cp:revision>
  <dc:subject/>
  <dc:title>Rafael Trujillo</dc:title>
</cp:coreProperties>
</file>